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E2E-F777-4AA5-97B0-BE26FED0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698-505F-408A-ADE2-FAF04B37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14F-5ED4-4981-964D-04906FD9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EFB-3EE1-4D27-A3DB-9B657BCC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51F-6B30-47DF-9967-BC43EAFF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4D1-752A-41F6-B8A9-C4FBA15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3C9-310A-43C1-9756-F1BBBABE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495-3C22-45DC-85FE-C43A2B97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624-C3E1-43E3-B681-7C0CA4EB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6BD-884E-4570-A86D-7F16FF25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193-67A5-4E72-959C-D4A936A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DA4-296F-4B8C-8D13-F084AFD1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6A73F-1B18-4D00-8CFE-D43DFD758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DDA17-4A13-4590-B207-98A551CEE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short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long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shorter wavelength than Wave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longer wavelength than Wav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ttery changes chemical energy into electric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ove changes electricity into he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 Energ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television changes electricity into l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ttery powered fan changes chemical energy to electricity to move the fan bla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chanical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315200" y="203040"/>
            <a:ext cx="1015920" cy="140184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5"/>
          <p:cNvCxnSpPr/>
          <p:nvPr/>
        </p:nvCxnSpPr>
        <p:spPr>
          <a:xfrm>
            <a:off x="6337080" y="1426680"/>
            <a:ext cx="116892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434960" y="3898800"/>
            <a:ext cx="1105200" cy="110484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8"/>
          <p:cNvCxnSpPr/>
          <p:nvPr/>
        </p:nvCxnSpPr>
        <p:spPr>
          <a:xfrm>
            <a:off x="431640" y="3657240"/>
            <a:ext cx="1245600" cy="48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7" name="Straight Arrow Connector 10"/>
          <p:cNvCxnSpPr/>
          <p:nvPr/>
        </p:nvCxnSpPr>
        <p:spPr>
          <a:xfrm flipH="1">
            <a:off x="1041120" y="4838760"/>
            <a:ext cx="838800" cy="165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8" name="TextBox 11"/>
          <p:cNvSpPr/>
          <p:nvPr/>
        </p:nvSpPr>
        <p:spPr>
          <a:xfrm>
            <a:off x="6094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431640" y="453384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3"/>
          <a:stretch/>
        </p:blipFill>
        <p:spPr>
          <a:xfrm>
            <a:off x="3670200" y="3844800"/>
            <a:ext cx="180360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"/>
          <p:cNvSpPr/>
          <p:nvPr/>
        </p:nvSpPr>
        <p:spPr>
          <a:xfrm>
            <a:off x="3219480" y="384480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5079960" y="38448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4121280" y="3844800"/>
            <a:ext cx="9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"/>
          <p:cNvPicPr/>
          <p:nvPr/>
        </p:nvPicPr>
        <p:blipFill>
          <a:blip r:embed="rId4"/>
          <a:stretch/>
        </p:blipFill>
        <p:spPr>
          <a:xfrm>
            <a:off x="6975360" y="3963960"/>
            <a:ext cx="1613160" cy="939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8"/>
          <p:cNvSpPr/>
          <p:nvPr/>
        </p:nvSpPr>
        <p:spPr>
          <a:xfrm>
            <a:off x="6337440" y="3898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0"/>
          <p:cNvCxnSpPr/>
          <p:nvPr/>
        </p:nvCxnSpPr>
        <p:spPr>
          <a:xfrm>
            <a:off x="6629040" y="4268880"/>
            <a:ext cx="346680" cy="165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Straight Arrow Connector 24"/>
          <p:cNvCxnSpPr/>
          <p:nvPr/>
        </p:nvCxnSpPr>
        <p:spPr>
          <a:xfrm>
            <a:off x="7315200" y="4122720"/>
            <a:ext cx="6739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" name="TextBox 25"/>
          <p:cNvSpPr/>
          <p:nvPr/>
        </p:nvSpPr>
        <p:spPr>
          <a:xfrm>
            <a:off x="7124760" y="37958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8394840" y="37479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28"/>
          <p:cNvCxnSpPr/>
          <p:nvPr/>
        </p:nvCxnSpPr>
        <p:spPr>
          <a:xfrm flipV="1">
            <a:off x="8588160" y="4059000"/>
            <a:ext cx="34020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1:08:1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29T01:37:30Z</dcterms:modified>
  <cp:revision>7</cp:revision>
  <dc:subject/>
  <dc:title>Slide 1</dc:title>
</cp:coreProperties>
</file>